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96D9-4EA7-4D33-9345-DC9F8A924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756D-6CDC-4492-91F1-623FBCB1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02FF-B335-4367-A90E-01AF80EA7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C93D-BB2A-4340-8747-CF20DEA6C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1776-9DA8-43EF-B5AE-A16A9B3A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FBD0-C802-4E59-BCC4-F87740AF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017C-870E-4EDA-A7BD-B75932AC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4E25-A645-4241-BEDF-709E1342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4190-3378-4F1D-B93E-F9AA2533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4630-457D-4B0A-A676-AD4AFE12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5961-06AD-485C-869F-1DDBA8E2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2AE7-C28F-4C23-9034-2797611C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7B16-6DC6-4AA3-9653-D863305C83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ontent Placeholder 3" descr=""/>
          <p:cNvPicPr/>
          <p:nvPr/>
        </p:nvPicPr>
        <p:blipFill>
          <a:blip r:embed="rId1"/>
          <a:stretch/>
        </p:blipFill>
        <p:spPr>
          <a:xfrm>
            <a:off x="-6480" y="-49320"/>
            <a:ext cx="9017280" cy="6993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428760" y="592920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7500960" y="592920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ther Comm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0C0D-C284-4A30-AD1C-FAA6DE57B6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arol Koechlin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7286760" y="50004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ive Spa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earning to Learn Spa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  <p:sp>
        <p:nvSpPr>
          <p:cNvPr id="4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6F31-5FDF-4F81-8D41-A17D3549A0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arol Koechlin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eatures of the Physical Comm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exibility (furniture and schedu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r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tworking places and spa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ductivity spaces and t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fortable and stimula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oks and resources kids want and ne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oks and computers don’t get in the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0F21-4E83-4EB2-B88B-72D292E931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arol Koechlin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eatures of the Physical Comm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quitable a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ebration of le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emplary learning experiences – relevant and real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, small groups, large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ultural center – Listening Lun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ntre for Professional Learning Te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7358040" y="4357800"/>
            <a:ext cx="2041560" cy="207000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AB41-9614-4D07-BD44-5B174548BD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arol Koechlin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Library Web Pag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s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Virtual Learning Comm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371600" y="205740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A Giant Conversa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Diagram 3" descr=""/>
          <p:cNvPicPr/>
          <p:nvPr/>
        </p:nvPicPr>
        <p:blipFill>
          <a:blip r:embed="rId1"/>
          <a:stretch/>
        </p:blipFill>
        <p:spPr>
          <a:xfrm>
            <a:off x="1517760" y="3193920"/>
            <a:ext cx="6108480" cy="3517920"/>
          </a:xfrm>
          <a:prstGeom prst="rect">
            <a:avLst/>
          </a:prstGeom>
          <a:ln w="0">
            <a:noFill/>
          </a:ln>
        </p:spPr>
      </p:pic>
      <p:sp>
        <p:nvSpPr>
          <p:cNvPr id="6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00C8-1DD0-44FF-8F48-49DBC73894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arol Koechlin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Virtual Learning Commons Featu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laborative Web 2.0 learning pro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ource center built by every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tual book clubs/discus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gnment conversations: teacher/teacher librarian/learners and other special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cation central -24/7/36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tual year book/muse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6861240" y="4724280"/>
            <a:ext cx="1825560" cy="1609920"/>
          </a:xfrm>
          <a:prstGeom prst="rect">
            <a:avLst/>
          </a:prstGeom>
          <a:ln w="0">
            <a:noFill/>
          </a:ln>
        </p:spPr>
      </p:pic>
      <p:sp>
        <p:nvSpPr>
          <p:cNvPr id="6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5F03-3218-447B-A0B6-CEDC9D8914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arol Koechlin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will it Cos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Content Placeholder 3" descr=""/>
          <p:cNvPicPr/>
          <p:nvPr/>
        </p:nvPicPr>
        <p:blipFill>
          <a:blip r:embed="rId1"/>
          <a:stretch/>
        </p:blipFill>
        <p:spPr>
          <a:xfrm>
            <a:off x="438120" y="1596960"/>
            <a:ext cx="8267760" cy="4535640"/>
          </a:xfrm>
          <a:prstGeom prst="rect">
            <a:avLst/>
          </a:prstGeom>
          <a:ln w="0">
            <a:noFill/>
          </a:ln>
        </p:spPr>
      </p:pic>
      <p:sp>
        <p:nvSpPr>
          <p:cNvPr id="7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7239-3DB0-413B-B986-79E9B09FC0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arol Koechlin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7:31:27Z</dcterms:created>
  <dc:creator>Carol Koechlin</dc:creator>
  <dc:description/>
  <dc:language>en-US</dc:language>
  <cp:lastModifiedBy>Carol Koechlin</cp:lastModifiedBy>
  <dcterms:modified xsi:type="dcterms:W3CDTF">2010-04-12T17:35:36Z</dcterms:modified>
  <cp:revision>1</cp:revision>
  <dc:subject/>
  <dc:title>Slide 1</dc:title>
</cp:coreProperties>
</file>